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296-895C-4B1E-B678-0404A828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AB6-5450-432E-8A4D-0C96F5B0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A85-D8BD-4E97-A1E9-9BF140AD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EDD-06D3-43E1-B4BD-0967D5C3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2AF-E291-4A4C-8EBB-1B8B4539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D2C-F2BA-483B-9979-05716978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360-FE2A-4A1A-9959-8C24028F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2A4-DE2E-4836-8F0D-B1ACA29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7DB-5E17-4709-9FE6-C29F6CF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247-33D5-4591-AC54-781AD2B9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07E-89FD-4B9C-B057-35CD105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EF8-041D-4E93-8008-4B9A3877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76EA-6B7D-4EFF-81F9-FEA9FFE86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srossel.com/fotos/fotografie/rusland/rus_d3412_st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Kam%20Mountains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99"/>
                </a:solidFill>
                <a:uFillTx/>
                <a:latin typeface="Arial"/>
              </a:rPr>
              <a:t>Russia’s Awesome 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By: Leanne Gough and Vincent L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russia-flag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Impact"/>
                <a:ea typeface="Ginga&gt;"/>
              </a:rPr>
              <a:t>Why Russia’s Land is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Console"/>
              </a:rPr>
              <a:t>Much of it’s land is mountainous and hard to work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Console"/>
              </a:rPr>
              <a:t>The West Siberian Plains is muddy and mushy with many rivers flowing throug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Console"/>
              </a:rPr>
              <a:t>Russia’s livable land is extremely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utorana_plateau_w480"/>
          <p:cNvPicPr/>
          <p:nvPr/>
        </p:nvPicPr>
        <p:blipFill>
          <a:blip r:embed="rId1"/>
          <a:stretch/>
        </p:blipFill>
        <p:spPr>
          <a:xfrm>
            <a:off x="-685800" y="0"/>
            <a:ext cx="11201400" cy="6861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Memo Script SSi"/>
              </a:rPr>
              <a:t>Central Siberian Platea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emo Script S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emo Script SSi"/>
              </a:rPr>
              <a:t>Lake Baikal the deepest freshwater lake is on this plat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Memo Script S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emo Script SSi"/>
              </a:rPr>
              <a:t>Many people travel this plateau to see this lake which can be difficult with it’s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50"/>
                            </p:stCondLst>
                            <p:childTnLst>
                              <p:par>
                                <p:cTn id="2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cent Leung fo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nne Gough for gathering info and first half of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cent Leung for second half of PowerPoint and gathering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Griffith for giving us this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cent Leung for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nne Gough for s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ountain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Russia is huge! Its land is so big, it runs on two continents! Russia runs on both Asia and Euro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The Ural mountains divide these. Western Russia contains two mountain ranges. The Ural Mountain Range and the Caucasus Mountain R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05px-VittfarneGeorgien_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itannic Bold"/>
              </a:rPr>
              <a:t>Ural and Caucasus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U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Not ver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parate Russia and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Cauca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parate Southwest Asia and Southwestern Russia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aller than the Ural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vered in different types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mall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uhaus 93"/>
              </a:rPr>
              <a:t>Inland Water Bo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ussia, there are rivers, the largest sea in the world and some ca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ussian_river_cle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Rivers and Hugeness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many rivers in the West Siberian Plain that run over frozen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aspian Sea is the largest inland body of water in the water in the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ssia shares the Caspian Sea with four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Yunapixel"/>
                <a:ea typeface="Yunapixe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- mountains and rough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-has very hard wi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-ba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land-the problem with large land is that Russia’s army will have to protect more land from invasion and there will need to be more c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92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192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192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192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92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192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192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92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192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192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192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92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92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192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192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ueol_03_img0099"/>
          <p:cNvPicPr/>
          <p:nvPr/>
        </p:nvPicPr>
        <p:blipFill>
          <a:blip r:embed="rId1"/>
          <a:stretch/>
        </p:blipFill>
        <p:spPr>
          <a:xfrm>
            <a:off x="-762120" y="0"/>
            <a:ext cx="10439640" cy="686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home of Siberian Tiger, the West Siberian Plains is one of Russia’s major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rth European Plains lie in the northwest part of massive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SiberianTigerCub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line Dion Handwriting"/>
              </a:rPr>
              <a:t>West Siberian Pl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world’s largest flat land in the world, the West Siberian Plains making it long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Home to the Siberian Tiger which few live in the wild as of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many rivers in the plain make the land muddy and wet in man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People can only live effectively in the southern part of this pl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oland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line Dion Handwriting"/>
              </a:rPr>
              <a:t>North Europe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bri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brielle"/>
                <a:ea typeface="Gabrielle"/>
              </a:rPr>
              <a:t>Most of Russia’s small population lives in this south of this 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bri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brielle"/>
                <a:ea typeface="Gabrielle"/>
              </a:rPr>
              <a:t>Russia’s most mild climate only is in this small area leaving the rest unfavorable climat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bri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brielle"/>
                <a:ea typeface="Gabrielle"/>
              </a:rPr>
              <a:t>Moscow resides in the North European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57:06Z</dcterms:created>
  <dc:creator> </dc:creator>
  <dc:description/>
  <dc:language>en-US</dc:language>
  <cp:lastModifiedBy>Your User Name</cp:lastModifiedBy>
  <dcterms:modified xsi:type="dcterms:W3CDTF">2010-12-21T12:27:12Z</dcterms:modified>
  <cp:revision>11</cp:revision>
  <dc:subject/>
  <dc:title>It’s Always Tougher n Russia</dc:title>
</cp:coreProperties>
</file>